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26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776760" y="0"/>
            <a:ext cx="2892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6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9429840"/>
            <a:ext cx="28926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77676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31361FC1-34CF-4A9C-B09A-808289AB7D5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62120" y="5335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90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776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90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776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5335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772240" y="6261120"/>
            <a:ext cx="28764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1219320" y="-609480"/>
            <a:ext cx="2438640" cy="807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341" y="1988"/>
                  <a:pt x="11081" y="5080"/>
                  <a:pt x="11081" y="10800"/>
                </a:cubicBezTo>
                <a:cubicBezTo>
                  <a:pt x="11081" y="16520"/>
                  <a:pt x="16341" y="1961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ts val="2699"/>
              </a:lnSpc>
              <a:spcAft>
                <a:spcPts val="1301"/>
              </a:spcAft>
              <a:buClr>
                <a:srgbClr val="1e6e0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451640" y="260280"/>
            <a:ext cx="1468440" cy="3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6440" y="1730160"/>
            <a:ext cx="7788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ts val="6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5193c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5193c"/>
              </a:solidFill>
              <a:latin typeface="Arial"/>
            </a:endParaRPr>
          </a:p>
          <a:p>
            <a:pPr lvl="2" marL="914400" indent="38160" algn="ctr">
              <a:lnSpc>
                <a:spcPts val="26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1219320" y="-609480"/>
            <a:ext cx="2438640" cy="807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341" y="1988"/>
                  <a:pt x="11081" y="5080"/>
                  <a:pt x="11081" y="10800"/>
                </a:cubicBezTo>
                <a:cubicBezTo>
                  <a:pt x="11081" y="16520"/>
                  <a:pt x="16341" y="1961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84720" y="601992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a11d26"/>
                </a:solidFill>
                <a:latin typeface="Arial"/>
              </a:rPr>
              <a:t>www.</a:t>
            </a:r>
            <a:r>
              <a:rPr b="1" lang="en-GB" sz="2000" spc="-1" strike="noStrike">
                <a:solidFill>
                  <a:srgbClr val="a11d26"/>
                </a:solidFill>
                <a:latin typeface="Arial"/>
              </a:rPr>
              <a:t>transparentnost.org.y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11d26"/>
                </a:solidFill>
                <a:latin typeface="Arial"/>
              </a:rPr>
              <a:t>www.transparency.org/surveys/#c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19280" y="3357720"/>
            <a:ext cx="633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cc"/>
                </a:solidFill>
                <a:latin typeface="Arial"/>
              </a:rPr>
              <a:t>Global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Indeks percepcije korupcije</a:t>
            </a:r>
            <a:r>
              <a:rPr b="1" lang="sr-Latn-CS" sz="2800" spc="-1" strike="noStrike">
                <a:solidFill>
                  <a:srgbClr val="0033cc"/>
                </a:solidFill>
                <a:latin typeface="Arial"/>
              </a:rPr>
              <a:t> (CP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Transparency Interna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3735360" cy="93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Rezultati CPI i Srbij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CG obuhvaćena u 7 istraživanja koja su uzeta u obzir pri sačinjavanju indek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straživanja objavljena tokom 2005 i 2006 god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ngiranje po pojedinim istraživanjima kreće se od 2,3 do 4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tandardna devijacija u prihvatljivim granicama (0,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201080" cy="50403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993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3300"/>
                </a:solidFill>
                <a:latin typeface="Arial"/>
              </a:rPr>
              <a:t>CORRUTION PERCEPTIONS INDEX 2006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Bivše socijalističke zemlje</a:t>
            </a: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 Evrop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ston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loven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Mađarsk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t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vanij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Češka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lov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etonij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ugar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k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l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sk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Hrvatsk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ld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nij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24280" y="15235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1" lang="sr-Latn-CS" sz="2000" spc="-1" strike="noStrike">
                <a:solidFill>
                  <a:srgbClr val="ff0066"/>
                </a:solidFill>
                <a:latin typeface="Arial"/>
              </a:rPr>
              <a:t>rbija</a:t>
            </a:r>
            <a:r>
              <a:rPr b="1" lang="sr-Latn-CS" sz="20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0066"/>
                </a:solidFill>
                <a:latin typeface="Arial"/>
              </a:rPr>
              <a:t>3.0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ermenij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H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ruzij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kr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don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ban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s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l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orusij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09480" y="53352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CPI 200</a:t>
            </a: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6 – bivša SFR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79280" y="1700280"/>
          <a:ext cx="8715600" cy="2835360"/>
        </p:xfrm>
        <a:graphic>
          <a:graphicData uri="http://schemas.openxmlformats.org/drawingml/2006/table">
            <a:tbl>
              <a:tblPr/>
              <a:tblGrid>
                <a:gridCol w="704880"/>
                <a:gridCol w="1719360"/>
                <a:gridCol w="1328760"/>
                <a:gridCol w="784080"/>
                <a:gridCol w="792360"/>
                <a:gridCol w="863640"/>
                <a:gridCol w="863640"/>
                <a:gridCol w="1658880"/>
              </a:tblGrid>
              <a:tr h="5666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</a:t>
                      </a:r>
                      <a:r>
                        <a:rPr b="1" i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ml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1" i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r>
                        <a:rPr b="1" i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or 2000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or 2003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or</a:t>
                      </a:r>
                      <a:r>
                        <a:rPr b="0" i="1" lang="sr-Latn-C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00</a:t>
                      </a:r>
                      <a:r>
                        <a:rPr b="0" i="1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i="1" lang="sr-Latn-C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or</a:t>
                      </a:r>
                      <a:r>
                        <a:rPr b="0" i="1" lang="sr-Latn-C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00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traživa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335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ven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 </a:t>
                      </a:r>
                      <a:r>
                        <a:rPr b="1" lang="sr-Latn-CS" sz="2800" spc="-1" strike="noStrike">
                          <a:solidFill>
                            <a:srgbClr val="00ff00"/>
                          </a:solidFill>
                          <a:latin typeface="Wingdings 2"/>
                          <a:ea typeface="Wingdings 2"/>
                        </a:rPr>
                        <a:t>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vats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bija (SC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 </a:t>
                      </a:r>
                      <a:r>
                        <a:rPr b="1" lang="sr-Latn-CS" sz="2800" spc="-1" strike="noStrike">
                          <a:solidFill>
                            <a:srgbClr val="00ff00"/>
                          </a:solidFill>
                          <a:latin typeface="Wingdings 2"/>
                          <a:ea typeface="Wingdings 2"/>
                        </a:rPr>
                        <a:t>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</a:tr>
              <a:tr h="4442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64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don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987640" y="5373720"/>
          <a:ext cx="2808360" cy="210024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313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rbi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b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rin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75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3173400" y="4869000"/>
            <a:ext cx="214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90.  me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66"/>
                </a:solidFill>
                <a:latin typeface="Arial"/>
              </a:rPr>
              <a:t>Evolucija SCG i Srbij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70040" y="2673360"/>
          <a:ext cx="379260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2673360"/>
                    <a:ext cx="379260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326880" y="1625760"/>
          <a:ext cx="8589960" cy="42526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880" y="1625760"/>
                    <a:ext cx="8589960" cy="42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lasman SCG i Srbije po godinama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826920" y="1916280"/>
          <a:ext cx="7490160" cy="469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916280"/>
                    <a:ext cx="7490160" cy="46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Reakcije na dosadašnja rangiranj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-28296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daci iz 2000-te: suočavanje sa katastrofalnom slikom o Srbij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003: Očekivan veći pomak na listi, ali se percepcija sporo me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004: Napravljen novi pomak – približavanje realnom stanju stvar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005 i 2006: Zadržan minimalan trend rasta – nema radikalnih promena koje bi dovele do brze promene percepcije korupci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Percepcija o korupciji u Srbiji slična onoj u okolnim zemljama – napredak postoji ali je veoma sp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Rezultati CPI i Srbij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62800" indent="-2628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emlje mogu da ignorišu rezultate CPI samo na svoju štetu – čak i ako ne odražava u potpunosti realno stanje stvari, CPI je dobar pokazatelj onoga šta drugi misle o n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svojena Strategija za borbu protiv korupcije mora što pre da se razradi kroz kvalitetne akcione planove a njihova primena kontroliš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ko se antikorupcijski propisi i institucije samo stvaraju, a ne omogući se da funkcionišu u praksi, ne može se očekivati bitan po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2800" indent="-2628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ra se popraviti ambijent za poslovanje kroz garantovanje pravne sigurnosti, efikasne sudske  zaštite i smanjenje prilike da birokratija iznuđuje m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5181480" y="838080"/>
            <a:ext cx="3962160" cy="4876920"/>
            <a:chOff x="5181480" y="838080"/>
            <a:chExt cx="3962160" cy="487692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181480" y="838080"/>
              <a:ext cx="3962160" cy="48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437440" y="838080"/>
              <a:ext cx="3153960" cy="18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9280" y="2057040"/>
            <a:ext cx="5214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Meri stepen u ko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jem se opaža korumpiranost javnih službenika i političar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Indeks se sačinjava na osnovu 1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 različitih istraživanja i studija, koje je sprovelo 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9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 nezavisnih institucija ispitujući preduzetnike, analitičare i lokalne stručnjak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3300"/>
                </a:solidFill>
                <a:latin typeface="Arial"/>
              </a:rPr>
              <a:t>Indeks percepcije korupcije za 200</a:t>
            </a: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5628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CPI 2006 - Najbolji i najgori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971640" y="1628640"/>
          <a:ext cx="7273800" cy="5070240"/>
        </p:xfrm>
        <a:graphic>
          <a:graphicData uri="http://schemas.openxmlformats.org/drawingml/2006/table">
            <a:tbl>
              <a:tblPr/>
              <a:tblGrid>
                <a:gridCol w="1368360"/>
                <a:gridCol w="2232000"/>
                <a:gridCol w="1711440"/>
                <a:gridCol w="1962000"/>
              </a:tblGrid>
              <a:tr h="391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eml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kor (1-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. istraž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s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vi Ze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ns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Zeml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kor (1-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. istraži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vine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    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ijanmar (Burm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vi Ze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8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i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1258920" y="4292640"/>
            <a:ext cx="60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cc"/>
                </a:solidFill>
                <a:latin typeface="Arial"/>
              </a:rPr>
              <a:t>Zemlje percipirane kao najkorumpiran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87280" y="1125360"/>
            <a:ext cx="705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33cc"/>
                </a:solidFill>
                <a:latin typeface="Arial"/>
              </a:rPr>
              <a:t>Zemlje percepirane kao najmanje korumpi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Ciljevi CPI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a se izmeri koliko prisustvo korupcije u javnom sektoru opažaju poslovni ljudi, stručnjaci i analitičari rizik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a se unapredi komparativno razumevanje nivoa korupci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a ponudi presek viđenja donosilaca odluka koje utiču na trgovinu i investici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a stimuliše naučna istraživanja, analize uzroka i posledica korupcije, na međunarodnom i domaćem planu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a doprinese podizanju svesti o korupciji u javnosti – i stvori klimu za promen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Metodolog</a:t>
            </a: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ij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CPI 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je “istraživanje grupe istraživanja” koje se odvija iz godine u godinu i pruža podatke koji se mogu kontinuirano pratiti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95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Arial"/>
              </a:rPr>
              <a:t>- Minimum 3 </a:t>
            </a:r>
            <a:r>
              <a:rPr b="0" lang="sr-Latn-CS" sz="2200" spc="-1" strike="noStrike">
                <a:solidFill>
                  <a:srgbClr val="0033cc"/>
                </a:solidFill>
                <a:latin typeface="Arial"/>
              </a:rPr>
              <a:t>istraživanja po zemlji</a:t>
            </a:r>
            <a:endParaRPr b="0" lang="en-US" sz="2200" spc="-1" strike="noStrike">
              <a:solidFill>
                <a:srgbClr val="05193c"/>
              </a:solidFill>
              <a:latin typeface="Arial"/>
            </a:endParaRPr>
          </a:p>
          <a:p>
            <a:pPr lvl="1" marL="762120" indent="0">
              <a:lnSpc>
                <a:spcPct val="95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Arial"/>
              </a:rPr>
              <a:t>- </a:t>
            </a:r>
            <a:r>
              <a:rPr b="0" lang="sr-Latn-CS" sz="2200" spc="-1" strike="noStrike">
                <a:solidFill>
                  <a:srgbClr val="0033cc"/>
                </a:solidFill>
                <a:latin typeface="Arial"/>
              </a:rPr>
              <a:t>Istraživanje pokriva prethodne </a:t>
            </a:r>
            <a:r>
              <a:rPr b="0" lang="en-GB" sz="2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sr-Latn-CS" sz="2200" spc="-1" strike="noStrike">
                <a:solidFill>
                  <a:srgbClr val="0033cc"/>
                </a:solidFill>
                <a:latin typeface="Arial"/>
              </a:rPr>
              <a:t> godine</a:t>
            </a:r>
            <a:endParaRPr b="0" lang="en-US" sz="2200" spc="-1" strike="noStrike">
              <a:solidFill>
                <a:srgbClr val="05193c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Zemlje se boduju na skali od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 10 (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veoma ‘čiste’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) 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o 0 (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veoma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korumpirane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)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Ispituje se percepcija (opažanje) a ne činjenice (npr. broj osuda, broj tekstova u medijim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Korupcija određena kao “zloupotreba javnih ovlašćenja za privatnu korist”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796000" y="5229360"/>
            <a:ext cx="234000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Mogućnost poređenj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Indeks predstavlja presek viđenja poslovnih ljudi i analitičara za prilika u pojedinim zemljama i ne odražava nužno trendove za pojedine godi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Skor je relevantniji od mesta na tabeli (zato što se broj država koje su uključene na listu stalno povećav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Promene indeksa kod pojedinih država mogu biti rezultat promene uzorka – istraživanja koja su uzeta u obzir pri sačinjavanju indeks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796000" y="5229360"/>
            <a:ext cx="234000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3300"/>
                </a:solidFill>
                <a:latin typeface="Arial"/>
              </a:rPr>
              <a:t>Nedostaci i prednosti CPI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8208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1440" indent="-271440">
              <a:lnSpc>
                <a:spcPts val="2699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cc"/>
                </a:solidFill>
                <a:latin typeface="Arial"/>
              </a:rPr>
              <a:t>Indeks ne odražava stepen napora uloženih u borbi protiv korupc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ts val="2699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33cc"/>
                </a:solidFill>
                <a:latin typeface="Arial"/>
              </a:rPr>
              <a:t>Zemlje u razvoju mogu biti prikazane u lošijem svetlu usled pristrasnosti i predubeđenja stranih investitora (zato postoje i druga sredstva za merenje korupcij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ts val="2699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66"/>
                </a:solidFill>
                <a:latin typeface="Arial"/>
              </a:rPr>
              <a:t>I druga sredstva za procenu korupcije dovode do sličnih rezultata kao i C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66"/>
                </a:solidFill>
                <a:latin typeface="Arial"/>
              </a:rPr>
              <a:t>CPI je dobra šansa da se unapredi javna rasprava o korupci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66"/>
                </a:solidFill>
                <a:latin typeface="Arial"/>
              </a:rPr>
              <a:t>CPI je dobar podsticaj za sprovođenje daljih anali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66"/>
                </a:solidFill>
                <a:latin typeface="Arial"/>
              </a:rPr>
              <a:t>CPI obuhvata gotovo sve države sve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Izvori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59920" indent="-25992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IA: Country Policy and Institutional Assessment by the IDA and IB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U: Economist Intelligence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H: Freedom House, Nations in Trans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D: World Competitiveness Report of the Institute for Management 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: Merchant International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: Political and Economic Risk Consultancy, Hong K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CA: United Nations Economic Commission for Africa, African Governance Re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F: Global Competitiveness Report of the World Economic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MRC: World Markets Research Cen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36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93c"/>
              </a:solidFill>
              <a:latin typeface="Arial"/>
            </a:endParaRPr>
          </a:p>
          <a:p>
            <a:pPr lvl="1" marL="69336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93c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Izvor podataka u inicijalnim istraživanjim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10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93c"/>
              </a:solidFill>
              <a:latin typeface="Arial"/>
            </a:endParaRPr>
          </a:p>
          <a:p>
            <a:pPr lvl="1" marL="76212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93c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11280" y="1557360"/>
          <a:ext cx="8101080" cy="4413240"/>
        </p:xfrm>
        <a:graphic>
          <a:graphicData uri="http://schemas.openxmlformats.org/drawingml/2006/table">
            <a:tbl>
              <a:tblPr/>
              <a:tblGrid>
                <a:gridCol w="844560"/>
                <a:gridCol w="2751120"/>
                <a:gridCol w="4505400"/>
              </a:tblGrid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vor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zorak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U, FH, MIG </a:t>
                      </a:r>
                      <a:r>
                        <a:rPr b="0" lang="sr-Latn-C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MRC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ažanja nerezidenata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 </a:t>
                      </a:r>
                      <a:r>
                        <a:rPr b="0" lang="sr-Latn-C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pitanici uglavnom potiču iz razvijenih zemalja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I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učnjaci angažovani od strane Svetske banke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F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ažanja rezidenata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</a:t>
                      </a:r>
                      <a:r>
                        <a:rPr b="0" lang="sr-Latn-C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ispitanici su uglavnom lokalni stručnjaci, lokalni poslovni ljudi i multinacionalne firme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23:54:27Z</dcterms:created>
  <dc:creator>nemanja</dc:creator>
  <dc:description/>
  <dc:language>en-US</dc:language>
  <cp:lastModifiedBy>Kancelarija</cp:lastModifiedBy>
  <cp:lastPrinted>2001-02-20T16:28:36Z</cp:lastPrinted>
  <dcterms:modified xsi:type="dcterms:W3CDTF">2010-07-19T12:45:39Z</dcterms:modified>
  <cp:revision>5</cp:revision>
  <dc:subject/>
  <dc:title>Slide 1</dc:title>
</cp:coreProperties>
</file>