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1"/>
          </p:nvPr>
        </p:nvSpPr>
        <p:spPr>
          <a:xfrm>
            <a:off x="3776760" y="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853920" y="744120"/>
            <a:ext cx="496440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890280" y="4714560"/>
            <a:ext cx="4887720" cy="44672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-360" y="9429840"/>
            <a:ext cx="289260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3776760" y="9429840"/>
            <a:ext cx="2892240" cy="4968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fld id="{2E12F591-940D-4383-A5C4-A26E3B14C1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855720" y="7462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888480" y="4714920"/>
            <a:ext cx="4891320" cy="44654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nicious effects of corruption damage all aspects of life and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62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012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7760" y="3872160"/>
            <a:ext cx="25023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212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44800" y="387216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72160"/>
            <a:ext cx="777240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772240" y="6261120"/>
            <a:ext cx="287640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285840">
              <a:lnSpc>
                <a:spcPts val="2699"/>
              </a:lnSpc>
              <a:spcAft>
                <a:spcPts val="1301"/>
              </a:spcAft>
              <a:buClr>
                <a:srgbClr val="1e6e0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116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451640" y="260280"/>
            <a:ext cx="1468440" cy="3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76440" y="1730160"/>
            <a:ext cx="77882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ts val="63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ts val="2699"/>
              </a:lnSpc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5193c"/>
                </a:solidFill>
                <a:latin typeface="Arial"/>
              </a:rPr>
              <a:t>Second Outline Level</a:t>
            </a:r>
            <a:endParaRPr b="0" lang="en-US" sz="2100" spc="-1" strike="noStrike">
              <a:solidFill>
                <a:srgbClr val="05193c"/>
              </a:solidFill>
              <a:latin typeface="Arial"/>
            </a:endParaRPr>
          </a:p>
          <a:p>
            <a:pPr lvl="2" marL="914400" indent="38160" algn="ctr">
              <a:lnSpc>
                <a:spcPts val="2699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219320" y="-609480"/>
            <a:ext cx="2438640" cy="8076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341" y="1988"/>
                  <a:pt x="11081" y="5080"/>
                  <a:pt x="11081" y="10800"/>
                </a:cubicBezTo>
                <a:cubicBezTo>
                  <a:pt x="11081" y="16520"/>
                  <a:pt x="16341" y="1961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84720" y="6019920"/>
            <a:ext cx="46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a11d26"/>
                </a:solidFill>
                <a:latin typeface="Arial"/>
              </a:rPr>
              <a:t>www.</a:t>
            </a: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transparentnost.org.y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11d26"/>
                </a:solidFill>
                <a:latin typeface="Arial"/>
              </a:rPr>
              <a:t>www.transparency.org/surveys/#c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19280" y="3357720"/>
            <a:ext cx="633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Glob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Corruption Perception Index</a:t>
            </a:r>
            <a:r>
              <a:rPr b="1" lang="sr-Latn-CS" sz="2800" spc="-1" strike="noStrike">
                <a:solidFill>
                  <a:srgbClr val="0033cc"/>
                </a:solidFill>
                <a:latin typeface="Arial"/>
              </a:rPr>
              <a:t> (CPI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Transparency Internat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cc"/>
                </a:solidFill>
                <a:latin typeface="Arial"/>
              </a:rPr>
              <a:t>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843280" y="1557360"/>
            <a:ext cx="3735360" cy="93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PI results and Serbi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C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ncluded in seven researches which are taken into consideration when creating the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s published during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king by certain researches is fro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,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4,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deviation is in acceptable limit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0,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7201080" cy="50403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99308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c3300"/>
                </a:solidFill>
                <a:latin typeface="Arial"/>
              </a:rPr>
              <a:t>CORRUTION PERCEPTIONS INDEX 2006</a:t>
            </a:r>
            <a:endParaRPr b="1" lang="en-US" sz="2800" spc="-1" strike="noStrike">
              <a:solidFill>
                <a:srgbClr val="cc33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Former socialist countries in Europe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ston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en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ngary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Li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uan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ech Republic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Slovak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oat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ol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man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0066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rbia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ff0066"/>
                </a:solidFill>
                <a:latin typeface="Arial"/>
              </a:rPr>
              <a:t>3.0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org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kraine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Macedoni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Alban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Russia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e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us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09480" y="533520"/>
            <a:ext cx="8245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cc3300"/>
                </a:solidFill>
                <a:latin typeface="Arial"/>
              </a:rPr>
              <a:t>CPI 200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6 –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 ex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 SFR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79280" y="1700280"/>
          <a:ext cx="8715600" cy="2835360"/>
        </p:xfrm>
        <a:graphic>
          <a:graphicData uri="http://schemas.openxmlformats.org/drawingml/2006/table">
            <a:tbl>
              <a:tblPr/>
              <a:tblGrid>
                <a:gridCol w="704880"/>
                <a:gridCol w="1719360"/>
                <a:gridCol w="1328760"/>
                <a:gridCol w="784080"/>
                <a:gridCol w="792360"/>
                <a:gridCol w="863640"/>
                <a:gridCol w="863640"/>
                <a:gridCol w="1658880"/>
              </a:tblGrid>
              <a:tr h="5666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re</a:t>
                      </a:r>
                      <a:r>
                        <a:rPr b="1" i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-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</a:t>
                      </a: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0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e</a:t>
                      </a: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003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re </a:t>
                      </a: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r>
                        <a:rPr b="0" i="1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re </a:t>
                      </a:r>
                      <a:r>
                        <a:rPr b="0" i="1" lang="sr-Latn-C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arch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3352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ove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4 </a:t>
                      </a:r>
                      <a:r>
                        <a:rPr b="1" lang="sr-Latn-CS" sz="28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at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bia (SCG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 </a:t>
                      </a:r>
                      <a:r>
                        <a:rPr b="1" lang="sr-Latn-CS" sz="2800" spc="-1" strike="noStrike">
                          <a:solidFill>
                            <a:srgbClr val="00ff00"/>
                          </a:solidFill>
                          <a:latin typeface="Wingdings 2"/>
                          <a:ea typeface="Wingdings 2"/>
                        </a:rPr>
                        <a:t>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757"/>
                    </a:solidFill>
                  </a:tcPr>
                </a:tc>
              </a:tr>
              <a:tr h="44424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64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o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 </a:t>
                      </a: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ts val="2200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987640" y="5373720"/>
          <a:ext cx="2808360" cy="2100240"/>
        </p:xfrm>
        <a:graphic>
          <a:graphicData uri="http://schemas.openxmlformats.org/drawingml/2006/table">
            <a:tbl>
              <a:tblPr/>
              <a:tblGrid>
                <a:gridCol w="2808360"/>
              </a:tblGrid>
              <a:tr h="1313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b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rinam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75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354348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173400" y="4869000"/>
            <a:ext cx="214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90.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Evolu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tion of</a:t>
            </a: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 SCG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d</a:t>
            </a: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 S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e</a:t>
            </a:r>
            <a:r>
              <a:rPr b="1" lang="sr-Latn-CS" sz="3200" spc="-1" strike="noStrike">
                <a:solidFill>
                  <a:srgbClr val="000066"/>
                </a:solidFill>
                <a:latin typeface="Arial"/>
              </a:rPr>
              <a:t>rbi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70040" y="2673360"/>
          <a:ext cx="3792600" cy="219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2673360"/>
                    <a:ext cx="379260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712800" y="1628640"/>
          <a:ext cx="7812000" cy="4253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2800" y="1628640"/>
                    <a:ext cx="7812000" cy="42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SCG and Serbia’s place by year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826920" y="1916280"/>
          <a:ext cx="7490160" cy="4690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916280"/>
                    <a:ext cx="7490160" cy="46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actions to recent ranking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ro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0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ng with catastrophic picture of Ser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3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larger move on the lis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perception changes slow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4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ove mad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ting close to real stat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00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2006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al trend of increase is kept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adical changes which would lead to fast change of corruption per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 algn="just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rruption perception in Serbia is similar to that in surrounding countries 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ess exists but is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PI results and Serbia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ies can ignore CPI results only on their damag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it doesn’t reflect totally to real state of thing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CP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good index of what other people think of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ed strategy for fight against corruption must be elaborated as soon as possible through quality action plans and their implementation should be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anticorruption regulations and institutions are just establish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ir functioning in practice isn’t enabled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move can’t be ex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560" indent="-26856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for business must be renovated through guarantee of legal safety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ourt protection and decreasing chance of the bureaucracy to extort b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5181480" y="838080"/>
            <a:ext cx="3962160" cy="4876920"/>
            <a:chOff x="5181480" y="838080"/>
            <a:chExt cx="3962160" cy="4876920"/>
          </a:xfrm>
        </p:grpSpPr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181480" y="838080"/>
              <a:ext cx="3962160" cy="48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5437440" y="838080"/>
              <a:ext cx="3153960" cy="18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79280" y="2057040"/>
            <a:ext cx="5214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Measures the level in which the corruption of public servants and politicians is perceiv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Index is made on the bases of twelve different researches and studies, which were conducted by nine independent institutions questioning businessmen, analysts and local exper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Corruption Perception Index for 200</a:t>
            </a: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5628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cc3300"/>
                </a:solidFill>
                <a:latin typeface="Arial"/>
              </a:rPr>
              <a:t>CPI 2006 – 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The best and the worst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71640" y="1628640"/>
          <a:ext cx="7273800" cy="5318280"/>
        </p:xfrm>
        <a:graphic>
          <a:graphicData uri="http://schemas.openxmlformats.org/drawingml/2006/table">
            <a:tbl>
              <a:tblPr/>
              <a:tblGrid>
                <a:gridCol w="1368360"/>
                <a:gridCol w="2232000"/>
                <a:gridCol w="1711440"/>
                <a:gridCol w="1962000"/>
              </a:tblGrid>
              <a:tr h="642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1-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w Zeal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6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nma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re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(1-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. of resear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uin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m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ra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ai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285840" indent="-285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58920" y="4292640"/>
            <a:ext cx="604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untries recognized as the most corrup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87280" y="1125360"/>
            <a:ext cx="705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Countries recognized as the least corrup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CPI goal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To measure how much is the corruption perceived in public sector by businessmen, experts and analysts of ris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To promote comparative comprehension of the level of corru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To offer overview of decision makers’ points of view which  affects the market and investm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To stimulate scientific researches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, 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analysis of the cause and consequences of corruption, in international and domestic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To contribute to building the public consciousness about corruption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– 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and create climate for chan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Methodology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CPI is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research of group of researches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” 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which is conducted every year and provides information which can continuously be monitored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GB" sz="2500" spc="-1" strike="noStrike">
                <a:solidFill>
                  <a:srgbClr val="0033cc"/>
                </a:solidFill>
                <a:latin typeface="Arial"/>
              </a:rPr>
              <a:t>Minimum three researches by count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54200" indent="0">
              <a:lnSpc>
                <a:spcPct val="95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33cc"/>
                </a:solidFill>
                <a:latin typeface="Arial"/>
              </a:rPr>
              <a:t>- Research includes previous two years</a:t>
            </a:r>
            <a:endParaRPr b="0" lang="en-US" sz="2200" spc="-1" strike="noStrike">
              <a:solidFill>
                <a:srgbClr val="05193c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Countries are scored on the scale from 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10 (very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‘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clean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’</a:t>
            </a:r>
            <a:r>
              <a:rPr b="0" lang="en-GB" sz="2300" spc="-1" strike="noStrike">
                <a:solidFill>
                  <a:srgbClr val="0033cc"/>
                </a:solidFill>
                <a:latin typeface="Arial"/>
              </a:rPr>
              <a:t>) to 0 (very corrupted)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Perception is questioned and not the facts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e.g. number of convictions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 number of media texts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Corruption determined as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abuse of public authorities for private interests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”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300720" y="5805360"/>
            <a:ext cx="2340000" cy="16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Possibility of comparing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Index represents overview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of points of view of businessmen and analysts about certain countries’ situation and doesn’t reflect necessarily  trends for certain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Score is more relevant than the rank on the list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because the number of countries included in the list is constantly increasing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Index changes of certain countries can be a result of sample changes </a:t>
            </a:r>
            <a:r>
              <a:rPr b="0" lang="sr-Latn-CS" sz="2300" spc="-1" strike="noStrike">
                <a:solidFill>
                  <a:srgbClr val="0033cc"/>
                </a:solidFill>
                <a:latin typeface="Arial"/>
              </a:rPr>
              <a:t>– </a:t>
            </a:r>
            <a:r>
              <a:rPr b="0" lang="en-US" sz="2300" spc="-1" strike="noStrike">
                <a:solidFill>
                  <a:srgbClr val="0033cc"/>
                </a:solidFill>
                <a:latin typeface="Arial"/>
              </a:rPr>
              <a:t>researches taken into consideration when creating the inde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5796000" y="5229360"/>
            <a:ext cx="2340000" cy="16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cc3300"/>
                </a:solidFill>
                <a:latin typeface="Arial"/>
              </a:rPr>
              <a:t>Disadvantages and advantages of  CPI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4360" y="98064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Index doesn’t reflect the level of efforts invested into fight against corruption </a:t>
            </a: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Developing countries can be shown in worse light due to prejudice and pre convictions of foreign investors</a:t>
            </a: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at is why other instruments for measuring corruption exist</a:t>
            </a:r>
            <a:r>
              <a:rPr b="0" lang="sr-Latn-CS" sz="2800" spc="-1" strike="noStrike">
                <a:solidFill>
                  <a:srgbClr val="0033cc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Other instruments for measuring corruption also come to similar results as </a:t>
            </a: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s good chance to promote public debate on corru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CPI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s good stimulation for conducting further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ct val="100000"/>
              </a:lnSpc>
              <a:spcAft>
                <a:spcPts val="1301"/>
              </a:spcAft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sr-Latn-CS" sz="2800" spc="-1" strike="noStrike">
                <a:solidFill>
                  <a:srgbClr val="ff0066"/>
                </a:solidFill>
                <a:latin typeface="Arial"/>
              </a:rPr>
              <a:t>PI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ncludes almost all the worl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sources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IA: Country Policy and Institutional Assessment by the IDA and IB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U: Economist Intelligence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H: Freedom House, Nations in Trans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D: World Competitiveness Report of the Institute for Management Develop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G: Merchant International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: Political and Economic Risk Consultancy, Hong K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CA: United Nations Economic Commission for Africa, African Governance Repor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F: Global Competitiveness Report of the 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9920" indent="-259920">
              <a:lnSpc>
                <a:spcPts val="2699"/>
              </a:lnSpc>
              <a:spcAft>
                <a:spcPts val="13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MRC: World Markets Research Cen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336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69336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599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Arial"/>
              </a:rPr>
              <a:t>Resource of information in initial researches </a:t>
            </a:r>
            <a:endParaRPr b="1" lang="en-US" sz="32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10000"/>
              </a:lnSpc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ts val="2699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lvl="1" marL="76212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193c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Aft>
                <a:spcPts val="13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11280" y="1557360"/>
          <a:ext cx="8101080" cy="4413240"/>
        </p:xfrm>
        <a:graphic>
          <a:graphicData uri="http://schemas.openxmlformats.org/drawingml/2006/table">
            <a:tbl>
              <a:tblPr/>
              <a:tblGrid>
                <a:gridCol w="844560"/>
                <a:gridCol w="2751120"/>
                <a:gridCol w="4505400"/>
              </a:tblGrid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urc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p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U, FH, MIG </a:t>
                      </a: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WMRC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 residents’ perception; examinees mostly come from developed countries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IA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ts engaged from World Ba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F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ts val="2699"/>
                        </a:lnSpc>
                        <a:spcAft>
                          <a:spcPts val="13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dents’ perception;</a:t>
                      </a: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minees are mostly local experts</a:t>
                      </a:r>
                      <a:r>
                        <a:rPr b="0" lang="sr-Latn-C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</a:t>
                      </a: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businessmen and multinational companies.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23:54:27Z</dcterms:created>
  <dc:creator>nemanja</dc:creator>
  <dc:description/>
  <dc:language>en-US</dc:language>
  <cp:lastModifiedBy>User</cp:lastModifiedBy>
  <cp:lastPrinted>2001-02-20T16:28:36Z</cp:lastPrinted>
  <dcterms:modified xsi:type="dcterms:W3CDTF">2014-03-27T15:12:07Z</dcterms:modified>
  <cp:revision>8</cp:revision>
  <dc:subject/>
  <dc:title>Slide 1</dc:title>
</cp:coreProperties>
</file>